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13B-5A82-4766-A36B-AD15EF97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7B6-56A3-4C78-93A2-14DF44AD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AF3-6A87-494A-94BB-5D577785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0EA-B4A7-47A8-9452-53DC38EF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D19-D2CA-4320-996C-1D46F862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39C-7329-47A8-9E4D-430B39ED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01D-724C-4078-A9D8-8D5D8E45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D97-8315-4644-A413-27351EFB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702-087F-4F98-B09C-39B6030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E0D-CA74-411F-B04B-FEBABB23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5A8-2B7C-419C-81A3-EDC0E58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BE3-4829-4C66-8D8D-DD65D04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1916-AC70-480A-8F47-598ED5C0E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nager’s Buzz Word Bin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04920"/>
            <a:ext cx="807696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-2666520" y="3352680"/>
            <a:ext cx="624816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5800" y="1905120"/>
            <a:ext cx="7924680" cy="4114800"/>
            <a:chOff x="685800" y="1905120"/>
            <a:chExt cx="7924680" cy="4114800"/>
          </a:xfrm>
        </p:grpSpPr>
        <p:sp>
          <p:nvSpPr>
            <p:cNvPr id="45" name=""/>
            <p:cNvSpPr/>
            <p:nvPr/>
          </p:nvSpPr>
          <p:spPr>
            <a:xfrm>
              <a:off x="6904080" y="5197680"/>
              <a:ext cx="170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49960" y="5197680"/>
              <a:ext cx="1554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iller 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794040" y="5197680"/>
              <a:ext cx="155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nancial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8280" y="5197680"/>
              <a:ext cx="1355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ower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5197680"/>
              <a:ext cx="1752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ought l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04080" y="4373640"/>
              <a:ext cx="170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stems 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49960" y="4373640"/>
              <a:ext cx="155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lanced Scorec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94040" y="4373640"/>
              <a:ext cx="155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uman Capital Ass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8280" y="4373640"/>
              <a:ext cx="1355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rtual workp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4373640"/>
              <a:ext cx="175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a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04080" y="3551400"/>
              <a:ext cx="170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trix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49960" y="3551400"/>
              <a:ext cx="1554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94040" y="3551400"/>
              <a:ext cx="155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8280" y="3551400"/>
              <a:ext cx="1355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wnsiz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3551400"/>
              <a:ext cx="1752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engine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04080" y="2727720"/>
              <a:ext cx="17064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 Compet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49960" y="2727720"/>
              <a:ext cx="1554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ue 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94040" y="2727720"/>
              <a:ext cx="15559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8280" y="2727720"/>
              <a:ext cx="13557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ey Results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2727720"/>
              <a:ext cx="17524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the end of the 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04080" y="1905120"/>
              <a:ext cx="17064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otional Intellig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49960" y="1905120"/>
              <a:ext cx="15541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d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uot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4040" y="1905120"/>
              <a:ext cx="15559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I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38280" y="1905120"/>
              <a:ext cx="1355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5800" y="1905120"/>
              <a:ext cx="1752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800" y="19051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27277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355140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437364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519768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60199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1905120"/>
              <a:ext cx="0" cy="411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9404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4996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0408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10480" y="1905120"/>
              <a:ext cx="0" cy="411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arning Buzz Word Bin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304920"/>
            <a:ext cx="8076960" cy="1522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-2666520" y="3352680"/>
            <a:ext cx="6248160" cy="1526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92468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1355760"/>
                <a:gridCol w="1555920"/>
                <a:gridCol w="1554120"/>
                <a:gridCol w="17064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eptual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inforc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n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logical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 Trans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ec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u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Ta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esth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06:16:06Z</dcterms:created>
  <dc:creator>dmungai</dc:creator>
  <dc:description/>
  <dc:language>en-US</dc:language>
  <cp:lastModifiedBy>jonesd</cp:lastModifiedBy>
  <dcterms:modified xsi:type="dcterms:W3CDTF">2002-07-19T14:57:16Z</dcterms:modified>
  <cp:revision>9</cp:revision>
  <dc:subject/>
  <dc:title>BUZZ WORD BINGO</dc:title>
</cp:coreProperties>
</file>